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NSLog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显示字符串：％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@,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不仅可以显示字符串，也可以显示对象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二十章：字符串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字符串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311200"/>
            <a:ext cx="10464840" cy="542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Foundation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框架支持一个名为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String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类，它用于处理字符串对象，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使用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ective-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言创建一个常字符串对象，需要在字符串开始放置一个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@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字符           </a:t>
            </a:r>
            <a:r>
              <a:rPr b="0" lang="zh-CN" sz="3600" spc="-1" strike="noStrike">
                <a:solidFill>
                  <a:srgbClr val="ffff00"/>
                </a:solidFill>
                <a:latin typeface="Chalkboard"/>
                <a:ea typeface="Heiti SC Light"/>
              </a:rPr>
              <a:t>如：</a:t>
            </a:r>
            <a:r>
              <a:rPr b="0" lang="en-US" sz="3600" spc="-1" strike="noStrike">
                <a:solidFill>
                  <a:srgbClr val="ffff00"/>
                </a:solidFill>
                <a:latin typeface="Chalkboard"/>
                <a:ea typeface="Heiti SC Light"/>
              </a:rPr>
              <a:t>@“hello world”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String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常用方法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-length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字符串长度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-stringByAppendingString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连接两个字符串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-isEqualToString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字符串的内容是否相同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-uppercaseString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大写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-lowercaseString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小写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+stringWithString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拷贝一个字符串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String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常用方法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-substringToIndex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-substringFormIndex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-substringWithRange: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接受一个范围，并返回指定范围的字符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如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:</a:t>
            </a:r>
            <a:r>
              <a:rPr b="0" lang="en-US" sz="3600" spc="-1" strike="noStrike">
                <a:solidFill>
                  <a:srgbClr val="ffff00"/>
                </a:solidFill>
                <a:latin typeface="Chalkboard"/>
              </a:rPr>
              <a:t>substringWithRange:NSMakeRange(8,6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可变对象与不可变对象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5714640"/>
            <a:ext cx="10464840" cy="223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String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处理不可变字符串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MutableString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处理可变字符串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"/>
          <p:cNvSpPr/>
          <p:nvPr/>
        </p:nvSpPr>
        <p:spPr>
          <a:xfrm>
            <a:off x="519120" y="2438280"/>
            <a:ext cx="1195056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 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通过编写</a:t>
            </a:r>
            <a:r>
              <a:rPr b="0" lang="en-US" sz="4200" spc="-1" strike="noStrike">
                <a:solidFill>
                  <a:srgbClr val="00ffff"/>
                </a:solidFill>
                <a:latin typeface="Chalkboard"/>
                <a:ea typeface="Chalkboard"/>
              </a:rPr>
              <a:t>@“hello world”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创建字符串对象时，就创建了一个内容不可更改的对象 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 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但是我们可能会经常需要处理字符串并更改字符串中的字符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可变字符串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425320"/>
            <a:ext cx="1046484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MutableString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可以用来创建可以更改字符的字符串对象（是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String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的子类，所有可以使用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String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所有方法）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MutableString</a:t>
            </a:r>
            <a:r>
              <a:rPr b="0" lang="zh-CN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常用方法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360" y="2273040"/>
            <a:ext cx="1224288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-insertString:atIndex: </a:t>
            </a:r>
            <a:r>
              <a:rPr b="0" lang="zh-CN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在指定位置插入字符串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-appendString: </a:t>
            </a:r>
            <a:r>
              <a:rPr b="0" lang="zh-CN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连接字符串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-deleteCharactersInRange</a:t>
            </a:r>
            <a:r>
              <a:rPr b="0" lang="zh-CN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：删除字符串中指定范围内的字符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-setString: </a:t>
            </a:r>
            <a:r>
              <a:rPr b="0" lang="zh-CN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可以用来直接设置可变字符串对象内容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– 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replaceCharactersInRange:withString:</a:t>
            </a:r>
            <a:r>
              <a:rPr b="0" lang="zh-CN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替换字符串中指定范围内的字符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